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38A0-6D14-40BF-B699-3A388033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DA47-3B79-456E-971E-3668722E02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B62-737C-4B04-8BCB-A1EF77A6F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033-70B9-44E8-9C93-DC30782B5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EB4-C94A-40AA-9855-96CA4B49F6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34B-B673-4881-BDC8-C287D497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029-D05D-4059-867B-7D505967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393-5B68-4BE0-8B42-9938A319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3CF-4243-4A3A-8042-FF446823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012-0ADA-4E1B-81AC-E904354B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9FB7-5CA5-4037-B876-B833F568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5942-AF0A-4829-B910-D67D55C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BB4-EADF-4B54-BF00-DCBE6B1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3738-7691-445E-9B35-F261FF7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951E-083A-40B2-B3D2-B2AA0A6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F3CC-29C7-4EE8-A9BC-2409511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AB5-2968-4257-A3CB-01F4049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C6EC-67E0-49BD-B81C-0D240CB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4884-DC38-4FD3-9A6D-7EECF61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1585-DD6D-4BFE-9D8A-6D3B931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5049-ECE5-4C0B-980C-F4ED541F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B235-7109-4964-85E2-4A356BB0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6BC-A8FC-4DE2-AF7B-305BD59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C60-526D-4FC8-AC37-DAAD856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B9B-E09A-447D-BF2E-4843E471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701-30A5-49FA-9D8C-9B1EF14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3F8-C11F-4D89-B1A9-A12D693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917-333E-4524-9844-88CB1E7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BA4-8A86-40B0-9D2B-419BF54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A14-5CB7-4F33-A954-1453E426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D165-6553-40EC-9691-B0916DFA64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ssi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ssi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ainp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kes up 77% of Russia?  Also, what continent has the coldest clim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beria and Antarc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4038480"/>
            <a:ext cx="1268280" cy="2819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difference between a free-market and communist economic 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666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-Market - chose your own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st - government chooses for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13600" y="4343400"/>
            <a:ext cx="11304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4428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ssia (2) 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At 2 AM on the first Sunday in March, we move our clocks forwa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373392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famous English play writer who wrote Romeo and Juliet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19320" y="3733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liam Shakespe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ry of _______  ________ is about a young German girl whose family spent 25 months in hiding during the Holoca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066680" y="3809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ne Fra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inpop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o we turn our clocks back to standard time?  (What month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90720" y="4191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ovemb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as Anne Frank hiding?  (City and Country)  - 3 Cho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295280" y="4191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sterdam, Netherla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continent would you find the Egyptian Pyrami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Africa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has a population of 192, 000, 000 people?  It is home to the biggest rain forest on earth and also contains the Amazon Ri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the popular resort city on the Yucatan Peninsula?  What continent is it found 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cun and North Amer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 (D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ssia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70 % of Russians are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the difference between Latitude and Longit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95280" y="350532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titude – measures North and South; Longitude – measures East and W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 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ay of life of people who share similar beliefs and customs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90720" y="4038480"/>
            <a:ext cx="7162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ation’s head of Olympic sports will be forced to resign after his country had a poor performance at the 2010 Winter Olympic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905120" y="4267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19112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t week, President Obama proposed $900 million to stop what social problem in America: homelessness, high school dropouts, drugs ab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igh School Dropout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umber one movie at the theaters last wee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143000" y="4114800"/>
            <a:ext cx="6477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lice in Wonderlan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of last Saturday, what player leads the NBA in scoring, averaging 30 points a game: LeBron James, Kobe Bryant, Carmelo Anth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66680" y="4343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Bron Ja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alex_no_stash_no_background"/>
          <p:cNvPicPr/>
          <p:nvPr/>
        </p:nvPicPr>
        <p:blipFill>
          <a:blip r:embed="rId1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vie won best picture at the Oscars? (Avatar, Up, Hurt Locker, Crazy Hear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1600" y="41148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rt Lock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ssi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The capital city of Russia is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4186080"/>
            <a:ext cx="120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1)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vides Asia and Europe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ral Mount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4419720"/>
            <a:ext cx="109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ssia (1)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the three most popular sports in Russia.  Which sport have they won the most gold medals and total medal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e Hockey, Figure Skating, and Gymnas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82000" y="4495680"/>
            <a:ext cx="106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1) 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most Russians live and why do they live ther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Russians live in the Western part of Russia because it is not as co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85320" y="4724280"/>
            <a:ext cx="95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In Communist Soviet Union, religion is encour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0400" y="4648320"/>
            <a:ext cx="99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ood do Russians eat on special occas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vi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3840" y="3809880"/>
            <a:ext cx="137016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people live in Russia?  Does it have more or less people than the United Stat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45 million/ less people than the United St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$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3:08:49Z</dcterms:created>
  <dc:creator>Student</dc:creator>
  <dc:description/>
  <dc:language>en-US</dc:language>
  <cp:lastModifiedBy>Tom Otis</cp:lastModifiedBy>
  <dcterms:modified xsi:type="dcterms:W3CDTF">2010-03-12T18:46:42Z</dcterms:modified>
  <cp:revision>75</cp:revision>
  <dc:subject/>
  <dc:title>Jeopardy</dc:title>
</cp:coreProperties>
</file>